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02499"/>
        <c:axId val="80985572"/>
      </c:barChart>
      <c:catAx>
        <c:axId val="32802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85572"/>
        <c:crosses val="autoZero"/>
        <c:auto val="1"/>
        <c:lblAlgn val="ctr"/>
        <c:lblOffset val="100"/>
        <c:noMultiLvlLbl val="0"/>
      </c:catAx>
      <c:valAx>
        <c:axId val="80985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02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386-5C1B-444B-B3DD-50BA88CB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2BF-DDB4-460B-B7B6-261BA3C3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6A6-C09C-4E7B-B02D-423D9D2D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C7A-2BDD-426A-A27A-F436A3AF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74F-F5D1-47A4-9533-EB98977B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FFD-DDBC-48CD-A6B4-5FDEC963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006-679C-40C9-B628-E4A309D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4B6-899D-4D18-B695-A4DADDBC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090-DBB5-4EAE-9A45-81B5526E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1CD-D41D-42E4-B0CE-FA252DD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808-2CE4-4169-9717-E3F19E8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84A-606A-41B6-A63E-4A07231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F49BA-0651-4A8D-9277-DF1B0AFD1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