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41910"/>
        <c:axId val="46998759"/>
      </c:barChart>
      <c:catAx>
        <c:axId val="13741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98759"/>
        <c:crosses val="autoZero"/>
        <c:auto val="1"/>
        <c:lblAlgn val="ctr"/>
        <c:lblOffset val="100"/>
        <c:noMultiLvlLbl val="0"/>
      </c:catAx>
      <c:valAx>
        <c:axId val="46998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41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908-010C-4A53-A3BC-54C5DEF0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7AE3-A3CD-416F-B236-5D2468D6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8A1F-9FD3-406F-BBAD-3F485E3A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2F1-75D4-4296-B510-8BA854D5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C237-11C1-4F26-AF6B-103AD8A8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3F7-7F49-40B0-8AFC-913E1F25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0B6-60D5-42F6-909C-009D5B34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B1B-D100-439E-B390-95204731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6D0-36D9-4C2A-889A-500CDB40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19CE-58BE-467F-92A3-C6538D19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1FBF-D8DF-4722-837D-2E606952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05CE-03D2-4789-ACB8-0D6D66E8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D5463-A727-4F05-9234-553CF09F13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