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94056"/>
        <c:axId val="95825960"/>
      </c:barChart>
      <c:catAx>
        <c:axId val="50794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5960"/>
        <c:crosses val="autoZero"/>
        <c:auto val="1"/>
        <c:lblAlgn val="ctr"/>
        <c:lblOffset val="100"/>
        <c:noMultiLvlLbl val="0"/>
      </c:catAx>
      <c:valAx>
        <c:axId val="95825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94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362-4B50-40E3-B608-6A7F07B6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FC5-EF9A-4309-AA91-227C1A4E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97E-1756-40CB-AE85-1D69B945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049-E913-4F4C-812A-6A6EDB4B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564-D4F8-4BEA-8036-DBEA240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924-45DF-4BBA-B54E-CED76F0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746-B82F-424F-8DC7-D5D5B002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E88-C37C-4294-A659-27B43628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E72-9F7A-4A66-B835-3D1F2512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B07-FD5B-4CEA-8180-FFD8CD48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ED6-7222-4833-84F1-87BCE29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5FB-D7FF-42FD-B882-0BD8A04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0229A-F2DD-48A4-B6C4-A00363E6A6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