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62059"/>
        <c:axId val="28043562"/>
      </c:barChart>
      <c:catAx>
        <c:axId val="39362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3562"/>
        <c:crosses val="autoZero"/>
        <c:auto val="1"/>
        <c:lblAlgn val="ctr"/>
        <c:lblOffset val="100"/>
        <c:noMultiLvlLbl val="0"/>
      </c:catAx>
      <c:valAx>
        <c:axId val="28043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62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A7C-B6DC-411A-9339-FBD4DD3F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5B7-7A57-4C78-B63D-02E2428F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282-C71F-4D3B-A5CF-8AEE193B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6E7-4BBE-47D1-8C74-A66796CD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886-E7C9-4377-98CF-7201BEF2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6A6-438D-4CAF-9C79-F4C5E9ED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CF5-3904-4D15-B6FD-0EFCB54E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DAC-10E7-48B7-8996-CA2AC4BC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3CF-CCEF-4F6F-99C0-3E0938D9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8A9-A3BE-4242-9F2A-A33B510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B57-5864-47CB-A858-DD09F514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9F9-CF50-45A6-8313-D8589F48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349BE-9D8C-462C-A87F-8D0EFAC7BB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