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128949"/>
        <c:axId val="34891222"/>
      </c:barChart>
      <c:catAx>
        <c:axId val="611289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891222"/>
        <c:crosses val="autoZero"/>
        <c:auto val="1"/>
        <c:lblAlgn val="ctr"/>
        <c:lblOffset val="100"/>
        <c:noMultiLvlLbl val="0"/>
      </c:catAx>
      <c:valAx>
        <c:axId val="3489122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1289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AF2C-C63C-44A5-AA90-E9AC71B040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1FB7-01C4-44FD-AFE2-3112E9669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AD09-A9CD-49B7-9DFF-8558D9524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07D4-2A7A-4D67-8836-564139EDE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25B1-E724-47E7-B2DC-7977FA186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126A-7DA8-4E3A-BDE3-E0B76DB08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7F96-740E-4149-A151-3CA9688A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758D-B539-497B-9A9B-657F1D37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1F3-844B-4489-A98E-5486EEA2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BE51-8F34-402B-9D2D-FB5B1C4D1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4EB6-4FA4-4140-94E3-F1C9445B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1963-1988-49F7-848D-638D4E5D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2405D-9029-4A51-B5D5-36BFE9E266E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