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068328"/>
        <c:axId val="55579969"/>
      </c:barChart>
      <c:catAx>
        <c:axId val="380683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79969"/>
        <c:crosses val="autoZero"/>
        <c:auto val="1"/>
        <c:lblAlgn val="ctr"/>
        <c:lblOffset val="100"/>
        <c:noMultiLvlLbl val="0"/>
      </c:catAx>
      <c:valAx>
        <c:axId val="555799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683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CA6F-D5E9-419A-A5A8-CC449847A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66F0-C096-4E3D-85ED-88323F79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32FD-97D6-447E-97F6-BAE37FBC4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E335-EE9E-48C3-A039-A76D7EF9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E74A-13FD-44EA-9C13-EFEEBB1C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CC2A-1844-4985-9E99-E488C416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103C-A6DD-48E3-9D72-0F02A780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FCF6-6935-447C-9235-6658F068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BC3F-AC9F-4456-BC23-BD33E089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1677-218E-41C8-80AF-E9E47C77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A9DF-AE83-482D-9F92-00455551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D891-4F04-462D-9F2E-ABC1C0D8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21C4EE-7B37-413E-90AF-3EF063C8FC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