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66238"/>
        <c:axId val="27674905"/>
      </c:barChart>
      <c:catAx>
        <c:axId val="46366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4905"/>
        <c:crosses val="autoZero"/>
        <c:auto val="1"/>
        <c:lblAlgn val="ctr"/>
        <c:lblOffset val="100"/>
        <c:noMultiLvlLbl val="0"/>
      </c:catAx>
      <c:valAx>
        <c:axId val="27674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66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100E-F6DE-4D1B-8359-FF4CD895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09A3-2B18-418D-930E-FDFC20FBD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D64-A362-4E29-8CE5-8BF893EAB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816C-1263-4167-9580-9C5EF8DCB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8A12-688F-4C9E-BA8E-EC20A1B2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6B2-50B3-4CC2-9988-66346875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AF86-BE13-4204-A0BB-483186951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31FA-992C-4614-9D05-7B07F4CC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8638-274A-478A-94BC-26860DB8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634-D54A-447E-B44C-102A3601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35E3-C64A-48A5-AE92-A23EC7C7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AE75-A513-4D36-AECC-63F98F2A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EB650-2BB2-4C8F-B7C6-E8BC2B8243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