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30533"/>
        <c:axId val="80628518"/>
      </c:barChart>
      <c:catAx>
        <c:axId val="71930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28518"/>
        <c:crosses val="autoZero"/>
        <c:auto val="1"/>
        <c:lblAlgn val="ctr"/>
        <c:lblOffset val="100"/>
        <c:noMultiLvlLbl val="0"/>
      </c:catAx>
      <c:valAx>
        <c:axId val="80628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30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09D-9E44-4131-91E9-C09FDB38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137-FD73-412E-92E2-70574F43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F78-EFC6-4822-A9C3-E715106B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C0F-0966-4173-97B8-FECE44EF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6EA-346B-4662-A1CE-72968790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857-44C7-412F-8BE6-2135989D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E49-06AE-46F5-B91B-D6A710FC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CDB-BB8D-4DF0-BBD8-C0689E59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147-E148-4858-9D36-B278F4D2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09A-7C43-4161-949C-9FD581CF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6FE-4900-496E-834C-F376BF68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AB5-22D3-4B94-B70A-46E89805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9FA5A-04AF-4B7E-B7D8-A337D7FF2F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