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58517"/>
        <c:axId val="58013884"/>
      </c:barChart>
      <c:catAx>
        <c:axId val="170585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13884"/>
        <c:crosses val="autoZero"/>
        <c:auto val="1"/>
        <c:lblAlgn val="ctr"/>
        <c:lblOffset val="100"/>
        <c:noMultiLvlLbl val="0"/>
      </c:catAx>
      <c:valAx>
        <c:axId val="580138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585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915-F89E-4D35-B2F0-76DAF962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67BD-5919-4AD2-9DB1-972A89A8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354B-4286-460A-B988-615BA8EF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679-1B50-4B35-8056-9C3B06F1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17E6-4979-402A-B161-44F402C6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8677-8800-4113-BD84-5EF7D175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772-8F51-43BD-B608-83D3EB5C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918-05AE-4063-87F7-362A20EC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BAB-6CEB-4446-86F1-0931A41A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8ECF-59F5-4CF2-AFB4-1CF8640D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07CB-0878-4AE3-8949-E886237F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823D-4BA2-49B0-8B5A-ECABE0F3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C0BBC-C2D6-4E58-9EDE-CB21F0A1A4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