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451952"/>
        <c:axId val="84804248"/>
      </c:barChart>
      <c:catAx>
        <c:axId val="81451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04248"/>
        <c:crosses val="autoZero"/>
        <c:auto val="1"/>
        <c:lblAlgn val="ctr"/>
        <c:lblOffset val="100"/>
        <c:noMultiLvlLbl val="0"/>
      </c:catAx>
      <c:valAx>
        <c:axId val="848042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51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9363-0FC9-48EF-AAE5-0D68A6C2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9E1-1B69-47E3-B5EC-6C5ADD51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6F16-DA6A-4AF2-B77B-F2821E3A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0970-A6C3-40C6-9E80-E9FA47D4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F4E8-D246-4157-B1DB-C26CA41A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1768-1B2A-43F5-8AC7-D0C6A1DA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5AC0-C183-4099-866B-8934681D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1163-76BA-4C5D-9A89-A4F42817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563-A814-4494-A204-8F5DC73E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869D-A070-424B-AA60-38939B2A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8759-B3DF-4B4D-9B22-F91BF993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208A-B8D1-44D9-9470-C14B95CD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18BDF-B274-4B21-9F7A-8052796B8F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