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29267"/>
        <c:axId val="69806808"/>
      </c:barChart>
      <c:catAx>
        <c:axId val="64629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06808"/>
        <c:crosses val="autoZero"/>
        <c:auto val="1"/>
        <c:lblAlgn val="ctr"/>
        <c:lblOffset val="100"/>
        <c:noMultiLvlLbl val="0"/>
      </c:catAx>
      <c:valAx>
        <c:axId val="69806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29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2B2-2830-427E-882E-4B3F6B33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603-3E40-4B41-B59F-55874901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EAE-A18F-4AF4-A1EB-8A546121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AC9-D607-4A47-83CB-957D8FED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BC7-5976-4724-9023-43C32E40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6FD-8ABE-4365-9775-5E20C148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8D7-1FD5-48F1-8C58-EEA99713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770B-8CC8-4876-90E4-9E660EF9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FAB-EC87-46B8-95DC-F2D2323F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0DE-A686-427D-A315-BF9FBD00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87B-1CDC-4DFC-B193-3AAD8A16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696-AD9A-48E7-B2FE-F6879403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979E1-CC4C-47AD-B0E4-A5ADC217DF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