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01464"/>
        <c:axId val="64745231"/>
      </c:barChart>
      <c:catAx>
        <c:axId val="84301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45231"/>
        <c:crosses val="autoZero"/>
        <c:auto val="1"/>
        <c:lblAlgn val="ctr"/>
        <c:lblOffset val="100"/>
        <c:noMultiLvlLbl val="0"/>
      </c:catAx>
      <c:valAx>
        <c:axId val="64745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01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55D-0CB4-47F0-A356-541EFFC2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D95-4C24-49B1-A08E-D681D5EB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038-714A-4467-9240-FF8D557F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C8B-6549-4379-98A8-5D39247D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95C-D00E-465B-A3A6-41C6C22B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DBE-52B4-4A13-B335-40257386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A0A-662B-4DF4-8AE6-E1AA0CA9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B95-459E-42EC-A1CC-4F78D99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A00-32AB-4234-A16D-ED8DD8A1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F2D-5C34-4EE4-8B95-09701901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A1D-CEAA-4CD4-939E-59D7E19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600-ED47-4627-BD60-24780F21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F4E4-4C5B-412F-B5E9-CD62BB7AA7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