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02748"/>
        <c:axId val="75722276"/>
      </c:barChart>
      <c:catAx>
        <c:axId val="89902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22276"/>
        <c:crosses val="autoZero"/>
        <c:auto val="1"/>
        <c:lblAlgn val="ctr"/>
        <c:lblOffset val="100"/>
        <c:noMultiLvlLbl val="0"/>
      </c:catAx>
      <c:valAx>
        <c:axId val="75722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02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6CB-EFBF-4DCA-9962-B3520F0F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9FC-FE1E-4215-9876-3FC43DF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699-77BB-446F-B7A1-68CA3512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84E-DB29-41C6-94B8-2F966F5E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055-5800-4485-BCF6-865507E7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C76-3576-4E90-9928-7D1CECA9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BB0-5415-4A0A-BBB4-3A2503CC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2EA-B0FE-465D-A5E1-B73C5207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EAC-5578-488E-9963-8E286C44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398-D5AE-4F59-BC5D-97BCB4B4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03D-F048-4AB4-9AB9-C391DD7C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D04-F05D-41DF-95FD-200CF3E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1C47F-63C1-4899-AD32-079DCD0727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