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37777"/>
        <c:axId val="76028448"/>
      </c:barChart>
      <c:catAx>
        <c:axId val="17637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28448"/>
        <c:crosses val="autoZero"/>
        <c:auto val="1"/>
        <c:lblAlgn val="ctr"/>
        <c:lblOffset val="100"/>
        <c:noMultiLvlLbl val="0"/>
      </c:catAx>
      <c:valAx>
        <c:axId val="76028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37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293-B424-4AC0-ACAF-52B68FB7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4C7-7C73-4739-855D-5785285E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57A-3725-4EBA-ADE3-DBCB21C7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5CD-ACFA-4575-8A9C-FE88FE07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81C-7CF9-4EEE-A620-0CDCB77B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115-8831-4BB6-B8CB-DB4F54A6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11A-C577-4B18-BAE2-E516AF0E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DFC-9048-42BB-94E0-8C7DE5C2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4E4-ECC1-4C6A-9833-81030A45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06E-869D-47F2-A772-314B4484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CAC-A0E9-4026-88C6-C95BACA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77C-827B-49CF-807C-AE67AA77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91950-163F-4BF3-A47A-B7562D42EF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