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810770"/>
        <c:axId val="92631080"/>
      </c:barChart>
      <c:catAx>
        <c:axId val="848107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31080"/>
        <c:crosses val="autoZero"/>
        <c:auto val="1"/>
        <c:lblAlgn val="ctr"/>
        <c:lblOffset val="100"/>
        <c:noMultiLvlLbl val="0"/>
      </c:catAx>
      <c:valAx>
        <c:axId val="926310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107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019F-2C22-4786-8971-B25B21A5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6681-2E37-432B-B027-5BC6928E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1901-384C-44CB-8200-DDF4BB76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FC6C-4FDF-4396-ACC5-D34B72F7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B128-8DBF-443D-94B9-C9D75B45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B40-17C8-4106-90C3-FDD9E668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331D-8B67-46AC-9C5F-C8329101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38B3-2E98-428D-989C-AA34BB3D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D083-EBA4-4F9E-80A2-C5BD92C4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14D-C21B-46DC-A4E7-6A8AD7F5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BE9-61C5-467C-8251-3C3D4E83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0DA-95F4-436F-84C5-A565A7AA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7DED7-2049-49D0-B313-6811733DFD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